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BC2-2B7F-41D8-B611-955C27B7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7D9E-506D-4726-B3A1-526D61B0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782-8800-4984-8FE2-6436729D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418-7830-4BED-8AD8-716972A4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B008-216E-45FC-AB8D-A1C508356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0E14F-FBA4-4AC3-BE01-5C6285DC7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B4DA-C2ED-44CA-9D9A-08BD28809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D6639-7FE3-4AE1-9554-ED061B54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9106-082D-467F-8BAE-8B3AEE733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2D71-A36E-472F-9E6F-871ED994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E06D-DBCB-4071-9C6F-CCC006DB4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550C-A300-4F1A-974E-E4D2CEFB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A837D-ABE5-4B28-94E9-A5B258F8A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A278-CECA-424A-88A0-F73955BF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ADD75-3E1C-4E9D-8ABB-4E3FA3479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C992-82FF-42F0-8439-64EAA4FE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8024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12360" y="175212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77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98024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912360" y="4020840"/>
            <a:ext cx="18399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6118-E8BF-4097-8EFC-3DF7C6FD7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B92-5D3E-4887-9228-EDD38DBE2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97CC-EE0B-4C06-B83E-B6E5D1A6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5D68-2D39-4ACE-8E12-939F4D5B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3805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755-DB6C-4700-AC1C-1839441B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C8B8-BC7C-4861-A2BF-26E2C3C6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76000" y="402084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B8E-3F94-4E62-81CB-AA016E43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776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76000" y="1752120"/>
            <a:ext cx="278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7760" y="4020840"/>
            <a:ext cx="57150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D66D-0EE8-4F24-85DD-949C0851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380520"/>
            <a:ext cx="7543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7760" y="1752120"/>
            <a:ext cx="5715000" cy="434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46200" indent="-24840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9943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921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789920" indent="-19872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47760" y="6248520"/>
            <a:ext cx="327636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64A33-193B-4CF2-830A-2476B3461EA9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971440" y="1066680"/>
            <a:ext cx="579132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e3e5c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520"/>
            <a:ext cx="3048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3e3e5c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FEBF-A47F-42AE-8A4E-6623890A06E1}" type="slidenum">
              <a:rPr b="0" lang="en-US" sz="1400" spc="-1" strike="noStrike">
                <a:solidFill>
                  <a:srgbClr val="ffffff"/>
                </a:solidFill>
                <a:latin typeface="Tahoma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437200" y="4114800"/>
            <a:ext cx="4082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Jarvis Lyn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6th perio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Physical Scienc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163480" y="0"/>
            <a:ext cx="398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8ff04"/>
                </a:solidFill>
                <a:latin typeface="Times New Roman"/>
              </a:rPr>
              <a:t>Sea Level Forecas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29240" y="1600200"/>
            <a:ext cx="45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sheed called climate change “the most fundamental mor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llenge for humans in this century. The future of real people is on the line”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486320" y="1447920"/>
            <a:ext cx="4657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ning signs are already appearing, including high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des and coastal flooding, less rainfall and dimin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shwater supplies, as well as bleaching of some cor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efs that cradle Kiribati’s island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495680" y="1752480"/>
            <a:ext cx="4648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tantial hazards of rising ocea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cause of climate change are not limited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course, to small tropical islan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267080" y="2362320"/>
            <a:ext cx="4876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uman-induced climate change can l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sea level rise by heating of the oce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rfaces, causing the water to expan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rmal expansio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97240" y="1219320"/>
            <a:ext cx="4946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2007 IPCC report took an extremely conservative approach to potential sea level rise, focusing on thermal expansion. It estimate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at sea level increases could range from 0.2 to 0.6 meters by 21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12:35Z</dcterms:created>
  <dc:creator>PA Department of Education</dc:creator>
  <dc:description/>
  <dc:language>en-US</dc:language>
  <cp:lastModifiedBy>PA Department of Education</cp:lastModifiedBy>
  <dcterms:modified xsi:type="dcterms:W3CDTF">2009-05-22T16:31:45Z</dcterms:modified>
  <cp:revision>3</cp:revision>
  <dc:subject/>
  <dc:title>PowerPoint Presentation</dc:title>
</cp:coreProperties>
</file>